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6BE7-8C6B-44B1-8291-55690CD4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542-4436-4CFE-B727-F9659C5B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E5D-98D2-4246-9840-B08A787F7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CFC-BAEA-4B9D-AE0F-447E63E6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A150-37D7-48A9-BCEE-5B4FF574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A7D-8FAC-4FEF-843B-F79D2FDB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5A2D-4118-4B51-93A8-71D9CFE7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5B4-E9A5-46B0-AFA0-1FC3DF86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320-A2B4-4919-9B2E-8AE48896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F04F-983E-44FF-8708-096B37F3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DBA-5CFF-438C-B33A-367725C4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7128-FB3E-42CF-BB77-C0E7CF2F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D9B6-2B37-4C5E-AB83-B42343EBCB7D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Akşamları </a:t>
            </a:r>
            <a:br>
              <a:rPr sz="9000"/>
            </a:b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köyü </a:t>
            </a:r>
            <a:br>
              <a:rPr sz="9000"/>
            </a:b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eşkiyalar basardı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ff0000"/>
                </a:solidFill>
                <a:latin typeface="Century Gothic"/>
                <a:ea typeface="Courier New"/>
              </a:rPr>
              <a:t>Bebeğe </a:t>
            </a:r>
            <a:br>
              <a:rPr sz="9000"/>
            </a:br>
            <a:r>
              <a:rPr b="1" lang="tr-TR" sz="9000" spc="-1" strike="noStrike">
                <a:solidFill>
                  <a:srgbClr val="ff0000"/>
                </a:solidFill>
                <a:latin typeface="Century Gothic"/>
                <a:ea typeface="Courier New"/>
              </a:rPr>
              <a:t>süt </a:t>
            </a:r>
            <a:br>
              <a:rPr sz="9000"/>
            </a:br>
            <a:r>
              <a:rPr b="1" lang="tr-TR" sz="9000" spc="-1" strike="noStrike">
                <a:solidFill>
                  <a:srgbClr val="ff0000"/>
                </a:solidFill>
                <a:latin typeface="Century Gothic"/>
                <a:ea typeface="Courier New"/>
              </a:rPr>
              <a:t>getir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Balığın </a:t>
            </a:r>
            <a:br>
              <a:rPr sz="9000"/>
            </a:b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derisini </a:t>
            </a:r>
            <a:br>
              <a:rPr sz="9000"/>
            </a:b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hiç </a:t>
            </a:r>
            <a:br>
              <a:rPr sz="9000"/>
            </a:b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yemezdi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ff0000"/>
                </a:solidFill>
                <a:latin typeface="Century Gothic"/>
                <a:ea typeface="Courier New"/>
              </a:rPr>
              <a:t>Balıkçılar </a:t>
            </a:r>
            <a:br>
              <a:rPr sz="9000"/>
            </a:br>
            <a:r>
              <a:rPr b="1" lang="tr-TR" sz="9000" spc="-1" strike="noStrike">
                <a:solidFill>
                  <a:srgbClr val="ff0000"/>
                </a:solidFill>
                <a:latin typeface="Century Gothic"/>
                <a:ea typeface="Courier New"/>
              </a:rPr>
              <a:t>bir ada'yı gösteriyor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Balıklarla beslenen martıları simite Türkler alıştırdı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ff0000"/>
                </a:solidFill>
                <a:latin typeface="Century Gothic"/>
                <a:ea typeface="Courier New"/>
              </a:rPr>
              <a:t>Balkonun etrafını </a:t>
            </a:r>
            <a:br>
              <a:rPr sz="9000"/>
            </a:br>
            <a:r>
              <a:rPr b="1" lang="tr-TR" sz="9000" spc="-1" strike="noStrike">
                <a:solidFill>
                  <a:srgbClr val="ff0000"/>
                </a:solidFill>
                <a:latin typeface="Century Gothic"/>
                <a:ea typeface="Courier New"/>
              </a:rPr>
              <a:t>telle </a:t>
            </a:r>
            <a:br>
              <a:rPr sz="9000"/>
            </a:br>
            <a:r>
              <a:rPr b="1" lang="tr-TR" sz="9000" spc="-1" strike="noStrike">
                <a:solidFill>
                  <a:srgbClr val="ff0000"/>
                </a:solidFill>
                <a:latin typeface="Century Gothic"/>
                <a:ea typeface="Courier New"/>
              </a:rPr>
              <a:t>çevirdik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Balkonda </a:t>
            </a:r>
            <a:br>
              <a:rPr sz="9000"/>
            </a:b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çay </a:t>
            </a:r>
            <a:br>
              <a:rPr sz="9000"/>
            </a:b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içtik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44000" cy="6831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1327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ir dünya düşünürüm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0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Başından geleni bize anlattı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7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aşını hafifçe öne eğdi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6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Her şeyi biliyorsun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Kapıda fısıltılar işitmiş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ff0000"/>
                </a:solidFill>
                <a:latin typeface="Century Gothic"/>
                <a:ea typeface="Courier New"/>
              </a:rPr>
              <a:t>Analar doğurmuş ağayı, </a:t>
            </a:r>
            <a:br>
              <a:rPr sz="9000"/>
            </a:br>
            <a:r>
              <a:rPr b="1" lang="tr-TR" sz="9000" spc="-1" strike="noStrike">
                <a:solidFill>
                  <a:srgbClr val="ff0000"/>
                </a:solidFill>
                <a:latin typeface="Century Gothic"/>
                <a:ea typeface="Courier New"/>
              </a:rPr>
              <a:t>beyi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Bacağını masaya </a:t>
            </a:r>
            <a:br>
              <a:rPr sz="9000"/>
            </a:b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çarptı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ff0000"/>
                </a:solidFill>
                <a:latin typeface="Century Gothic"/>
                <a:ea typeface="Courier New"/>
              </a:rPr>
              <a:t>Bahçedeki ağaç </a:t>
            </a:r>
            <a:br>
              <a:rPr sz="9000"/>
            </a:br>
            <a:r>
              <a:rPr b="1" lang="tr-TR" sz="9000" spc="-1" strike="noStrike">
                <a:solidFill>
                  <a:srgbClr val="ff0000"/>
                </a:solidFill>
                <a:latin typeface="Century Gothic"/>
                <a:ea typeface="Courier New"/>
              </a:rPr>
              <a:t>sevinçle bizi karşıladı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Bahçeden </a:t>
            </a:r>
            <a:br>
              <a:rPr sz="9000"/>
            </a:b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acı biberleri topla.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ff0000"/>
                </a:solidFill>
                <a:latin typeface="Century Gothic"/>
                <a:ea typeface="Courier New"/>
              </a:rPr>
              <a:t>Bahçenin köşesine </a:t>
            </a:r>
            <a:br>
              <a:rPr sz="9000"/>
            </a:br>
            <a:r>
              <a:rPr b="1" lang="tr-TR" sz="9000" spc="-1" strike="noStrike">
                <a:solidFill>
                  <a:srgbClr val="ff0000"/>
                </a:solidFill>
                <a:latin typeface="Century Gothic"/>
                <a:ea typeface="Courier New"/>
              </a:rPr>
              <a:t>ağaç </a:t>
            </a:r>
            <a:br>
              <a:rPr sz="9000"/>
            </a:br>
            <a:r>
              <a:rPr b="1" lang="tr-TR" sz="9000" spc="-1" strike="noStrike">
                <a:solidFill>
                  <a:srgbClr val="ff0000"/>
                </a:solidFill>
                <a:latin typeface="Century Gothic"/>
                <a:ea typeface="Courier New"/>
              </a:rPr>
              <a:t>dikmiş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Bana </a:t>
            </a:r>
            <a:br>
              <a:rPr sz="9000"/>
            </a:b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sor; </a:t>
            </a:r>
            <a:br>
              <a:rPr sz="9000"/>
            </a:b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yalnızlığı, ayrılığı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ff0000"/>
                </a:solidFill>
                <a:latin typeface="Century Gothic"/>
                <a:ea typeface="Courier New"/>
              </a:rPr>
              <a:t>Bahçıvan çiçekleri suluyordu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Bakkal </a:t>
            </a:r>
            <a:br>
              <a:rPr sz="9000"/>
            </a:b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hepsini </a:t>
            </a:r>
            <a:br>
              <a:rPr sz="9000"/>
            </a:br>
            <a:r>
              <a:rPr b="1" lang="tr-TR" sz="9000" spc="-1" strike="noStrike">
                <a:solidFill>
                  <a:srgbClr val="000099"/>
                </a:solidFill>
                <a:latin typeface="Century Gothic"/>
                <a:ea typeface="Courier New"/>
              </a:rPr>
              <a:t>sattı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6T14:39:34Z</dcterms:modified>
  <cp:revision>124</cp:revision>
  <dc:subject/>
  <dc:title>KONU 1</dc:title>
</cp:coreProperties>
</file>